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B73-33DC-411C-9F97-10B2689C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4A0-AED7-4BB5-BB6D-BFD09C40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06C-5569-42C1-BBE2-8DBD5E5F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931-AA73-4D39-8DB2-2F0F4732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1E0-2305-4043-8DBE-5E4E30D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D9D-F0A9-434E-A83A-9489C5BD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A1E-6710-4795-99A3-B0E158F9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A3F-67F8-4025-9D50-C0DD2CD7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91C-5985-4BD9-A106-92DC42EA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7E0-7C0C-4F76-AE54-F7E9A3C4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DDC-E034-4B72-A439-4DF20D92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95D-B1DD-448E-ACDD-4A4AE28E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8E22-1F8C-4910-9576-598BD140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do I write a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?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0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130560" y="5126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329520" y="533520"/>
            <a:ext cx="1828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119480" y="9144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362320" y="1523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1371600"/>
            <a:ext cx="99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 flipV="1">
            <a:off x="152352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80880" y="2057400"/>
            <a:ext cx="8305920" cy="18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477120" y="1447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57800" y="4191120"/>
            <a:ext cx="34290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410080" y="5181480"/>
            <a:ext cx="20574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523880" y="419112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3526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3505320" y="53341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Colleg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343400" y="1752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553080" y="1752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7238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1143000" y="533412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34290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3657600" y="64767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447560" y="12193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gree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46240" y="68580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greeting uses two 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s 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>
            <a:hlinkClick r:id="rId3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bs01886_[1]"/>
          <p:cNvPicPr/>
          <p:nvPr/>
        </p:nvPicPr>
        <p:blipFill>
          <a:blip r:embed="rId4"/>
          <a:stretch/>
        </p:blipFill>
        <p:spPr>
          <a:xfrm>
            <a:off x="1523880" y="4114800"/>
            <a:ext cx="90036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5"/>
          <a:stretch/>
        </p:blipFill>
        <p:spPr>
          <a:xfrm>
            <a:off x="6019920" y="41148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79680" y="121932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clo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84240" y="533520"/>
            <a:ext cx="705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closing has one capital l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bs01886_[1]"/>
          <p:cNvPicPr/>
          <p:nvPr/>
        </p:nvPicPr>
        <p:blipFill>
          <a:blip r:embed="rId1"/>
          <a:stretch/>
        </p:blipFill>
        <p:spPr>
          <a:xfrm>
            <a:off x="1447920" y="320040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14600" y="3276720"/>
            <a:ext cx="5867280" cy="71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after the head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14600" y="4191120"/>
            <a:ext cx="5867280" cy="711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14600" y="1828800"/>
            <a:ext cx="58672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between the body and 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904400" y="533412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 Slide 18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85880" y="5335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rite friendly letters to people we know well.  We might write a friendly letter to our parents, grandparents, or 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297733"/>
          <p:cNvPicPr/>
          <p:nvPr/>
        </p:nvPicPr>
        <p:blipFill>
          <a:blip r:embed="rId1"/>
          <a:stretch/>
        </p:blipFill>
        <p:spPr>
          <a:xfrm>
            <a:off x="2705040" y="380988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bs01886_[1]"/>
          <p:cNvPicPr/>
          <p:nvPr/>
        </p:nvPicPr>
        <p:blipFill>
          <a:blip r:embed="rId1"/>
          <a:stretch/>
        </p:blipFill>
        <p:spPr>
          <a:xfrm>
            <a:off x="1447920" y="518148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8153280" y="525780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51560" y="62485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7696080" y="457200"/>
            <a:ext cx="486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02120" y="4572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540800" y="5791320"/>
            <a:ext cx="23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3352680" y="12193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528560" y="579132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Gr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3962520" y="2819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1542600" y="579132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7620120" y="5105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532880" y="57913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7010280" y="55627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526040" y="5791320"/>
            <a:ext cx="26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Sig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838080" y="228600"/>
            <a:ext cx="63248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w you know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to write a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3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Text Box 5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included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528480" y="1828800"/>
            <a:ext cx="808704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567160" y="240984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j0351406"/>
          <p:cNvPicPr/>
          <p:nvPr/>
        </p:nvPicPr>
        <p:blipFill>
          <a:blip r:embed="rId2"/>
          <a:stretch/>
        </p:blipFill>
        <p:spPr>
          <a:xfrm>
            <a:off x="4853160" y="733320"/>
            <a:ext cx="396396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j0352060"/>
          <p:cNvPicPr/>
          <p:nvPr/>
        </p:nvPicPr>
        <p:blipFill>
          <a:blip r:embed="rId3"/>
          <a:stretch/>
        </p:blipFill>
        <p:spPr>
          <a:xfrm>
            <a:off x="128520" y="42876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76920" y="533520"/>
            <a:ext cx="3886200" cy="1295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3733920" y="121896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266688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part of a friendly letter is called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The heading includes the writer’s address and the date.  The heading is written in the upper right-hand corner of th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j0199711"/>
          <p:cNvPicPr/>
          <p:nvPr/>
        </p:nvPicPr>
        <p:blipFill>
          <a:blip r:embed="rId1"/>
          <a:stretch/>
        </p:blipFill>
        <p:spPr>
          <a:xfrm>
            <a:off x="228600" y="5335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819520" y="969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257800" y="53352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886200" y="11426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80060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4920" y="2286000"/>
            <a:ext cx="3276360" cy="5814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3657240" y="25146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033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art of the friendly letter i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It is written under the heading at the left margin.  It begins with a capital letter and ends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j0212697"/>
          <p:cNvPicPr/>
          <p:nvPr/>
        </p:nvPicPr>
        <p:blipFill>
          <a:blip r:embed="rId1"/>
          <a:stretch/>
        </p:blipFill>
        <p:spPr>
          <a:xfrm>
            <a:off x="6858000" y="2133720"/>
            <a:ext cx="1434960" cy="180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j0197734"/>
          <p:cNvPicPr/>
          <p:nvPr/>
        </p:nvPicPr>
        <p:blipFill>
          <a:blip r:embed="rId2"/>
          <a:stretch/>
        </p:blipFill>
        <p:spPr>
          <a:xfrm>
            <a:off x="533520" y="304920"/>
            <a:ext cx="1276200" cy="171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457200"/>
            <a:ext cx="632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ay to the person you are writing to?  We put what we want to say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. 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 is in paragraph form.  The first line of each paragraph is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890640" y="3886200"/>
            <a:ext cx="7391520" cy="253116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066680" y="4191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j0359575"/>
          <p:cNvPicPr/>
          <p:nvPr/>
        </p:nvPicPr>
        <p:blipFill>
          <a:blip r:embed="rId1"/>
          <a:stretch/>
        </p:blipFill>
        <p:spPr>
          <a:xfrm>
            <a:off x="6858000" y="914400"/>
            <a:ext cx="1833480" cy="164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043000" y="11588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19720" y="1981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80880" y="2743200"/>
            <a:ext cx="8305920" cy="37656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553080" y="21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9343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j0356441"/>
          <p:cNvPicPr/>
          <p:nvPr/>
        </p:nvPicPr>
        <p:blipFill>
          <a:blip r:embed="rId1"/>
          <a:stretch/>
        </p:blipFill>
        <p:spPr>
          <a:xfrm>
            <a:off x="0" y="0"/>
            <a:ext cx="180648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990720"/>
            <a:ext cx="74674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last parts on the friendly letter.  Your closing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s tru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r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ined up directly under heading.  It begins with a capital letter and ends with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your name written directly under the cl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j0318704"/>
          <p:cNvPicPr/>
          <p:nvPr/>
        </p:nvPicPr>
        <p:blipFill>
          <a:blip r:embed="rId1"/>
          <a:stretch/>
        </p:blipFill>
        <p:spPr>
          <a:xfrm>
            <a:off x="6705720" y="1828800"/>
            <a:ext cx="1544400" cy="18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318708"/>
          <p:cNvPicPr/>
          <p:nvPr/>
        </p:nvPicPr>
        <p:blipFill>
          <a:blip r:embed="rId2"/>
          <a:stretch/>
        </p:blipFill>
        <p:spPr>
          <a:xfrm>
            <a:off x="380880" y="1981080"/>
            <a:ext cx="1168560" cy="181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8:35:35Z</dcterms:created>
  <dc:creator>Barbara Cloninger</dc:creator>
  <dc:description/>
  <dc:language>en-US</dc:language>
  <cp:lastModifiedBy>teacher</cp:lastModifiedBy>
  <dcterms:modified xsi:type="dcterms:W3CDTF">2012-02-08T18:57:17Z</dcterms:modified>
  <cp:revision>42</cp:revision>
  <dc:subject>Language Arts</dc:subject>
  <dc:title>How Do I Write a Friendly Letter</dc:title>
</cp:coreProperties>
</file>